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7CD-C831-48D0-8074-87EB5910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ED9-E046-45E7-AAA5-DC7EB03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6F4-F9EC-40AC-BBF4-B2C6CEB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014-DD24-43DE-88C0-4FAB3C66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65D3-28EB-42D4-AADD-417DCDC8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1026-0444-4372-B153-5070F5FB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FF0B-A8DD-403C-80E1-00EB28A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8D14-3111-437E-AB54-A06BF32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958-3EBD-4AAC-AE0B-9C7BDBDE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166-C70C-44B7-9D20-5B10AA7B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9068-8F89-41CB-A0A8-B72DAE75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9EC-4DAC-4AEF-B850-2207E6D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C07-331F-481E-BB82-6BFB51D7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EE81-F43F-4237-A9E0-0042601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B7E-7F19-4DC2-BE93-F3BE33F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ED5-F4A0-4863-ACFB-91520BAA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D329-1022-4064-9D3F-CE3BC253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A9D0-116F-43C2-9D49-E3C64D80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2226-09C6-4AEE-9777-4D56E77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A3CC-645C-471E-8103-E781252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E0AC-7E70-415D-8F8A-427E824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E2D4-24B4-40DE-8FEF-49D21843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780-9946-4BDF-87D2-CA0DAD13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18FF-FBFD-4E9D-A6F9-1E76E215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D327-059F-4D83-BD18-49668FA8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CCAC-84CE-4A81-A444-5297EA5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ECAC-C590-4513-9F29-9982F8B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0D12-87E1-49E4-A9A5-75EA899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DCC1-A6FE-4B68-BDAC-4300B4C7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9600-0D37-43F1-9891-E003AE6E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1755-8D9E-4CEB-B019-99CF5DBC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13FB-2D33-42CE-AC4F-45DCEAB2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9578-2641-4C75-9235-EFF35C8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4FE-AF4A-43B0-B830-100595E7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F938-34B3-49DE-B554-5624F9A5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DC46-9F6C-461A-89F0-992813E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7943-3044-4415-98C1-D533B1D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3E18-8F7D-46FD-9B5F-A7393F2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D1C2-2A74-4668-B271-FA62E35B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56CE-EB08-4E1B-813A-640E65B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66C1-76A0-4ED1-91AF-673BE46E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B801-5BAF-4AB1-9975-AD303EF5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703D-5519-4516-BD7B-A0559B1D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649E-FA3C-4DE9-BCD0-C8599375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AEF-DF4A-4CC6-B80A-05CB6486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46A2-AFD4-4AFE-AC0B-2578C64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B94A-F2CE-452C-899F-A9E2DA8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8408-81D0-4B52-A1D9-4503BB0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7667-9880-43C1-85C4-E3D0F9C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7D36-B71C-40CC-B6E2-EF1E9BF8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4C12-546E-4193-A90A-D11E64D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8EC1-1003-43A7-9BF2-D5E2626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D829-DD57-4C3D-8AF8-3233952E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E85D-0E58-4C08-BE5D-34BA022B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85D5-2EFA-4E8E-91D7-EB4340BD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6DC-6F26-4390-B1AC-36C7A74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9B72-4F27-4572-9F1A-1B3F5E3B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901-C50E-46C1-AE58-72A5196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F50-3114-48DE-AC59-9D4FABC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BFD-6DB2-45C6-A1E2-15AC6EE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7AC-AD55-4CD2-B517-F2DE6DD7CF0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EBD-DC0E-45DA-8AB6-FD2DD431BE5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9E69-CEB9-46C6-9A21-2ED5471B0BB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F47B-2BF7-4EC4-8433-4054348303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36F-31C2-4B08-BF63-672DF86E19F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лощади и объёмы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28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прямоуг.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=a*b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кв.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=a</a:t>
            </a:r>
            <a:r>
              <a:rPr b="1" lang="ru-RU" sz="20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пар-да=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a*b*c</a:t>
            </a: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куба =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 a</a:t>
            </a:r>
            <a:r>
              <a:rPr b="1" lang="ru-RU" sz="20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асная площад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C:\Documents and Settings\marina\Рабочий стол\МОЯ ПАПКА УЧИТЕЛЯ\красная площадь_2.jpg"/>
          <p:cNvPicPr/>
          <p:nvPr/>
        </p:nvPicPr>
        <p:blipFill>
          <a:blip r:embed="rId1"/>
          <a:stretch/>
        </p:blipFill>
        <p:spPr>
          <a:xfrm>
            <a:off x="468360" y="981000"/>
            <a:ext cx="8297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62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щадь прямоугольн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6" name="Picture 5" descr="E:\мнемо-картинки\сталин+ленин.jpg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щадь квадра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C:\Documents and Settings\marina\Рабочий стол\МОЯ ПАПКА УЧИТЕЛЯ\МНЕМОТЕХНИКА\мнемо-картинки\площадь квадрата.jpg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се площад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C:\Documents and Settings\marina\Рабочий стол\МОЯ ПАПКА УЧИТЕЛЯ\МНЕМОТЕХНИКА\мнемо-картинки\ВСЕ ПЛОЩАДИ ВМЕСТЕ.jpg"/>
          <p:cNvPicPr/>
          <p:nvPr/>
        </p:nvPicPr>
        <p:blipFill>
          <a:blip r:embed="rId1"/>
          <a:stretch/>
        </p:blipFill>
        <p:spPr>
          <a:xfrm>
            <a:off x="826920" y="1197000"/>
            <a:ext cx="7535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60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ъём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4" descr="C:\Documents and Settings\marina\Рабочий стол\МОЯ ПАПКА УЧИТЕЛЯ\бокал со льдом.jpg"/>
          <p:cNvPicPr/>
          <p:nvPr/>
        </p:nvPicPr>
        <p:blipFill>
          <a:blip r:embed="rId1"/>
          <a:stretch/>
        </p:blipFill>
        <p:spPr>
          <a:xfrm>
            <a:off x="0" y="2746440"/>
            <a:ext cx="3027240" cy="4111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marina\Рабочий стол\МОЯ ПАПКА УЧИТЕЛЯ\бокал со льдом_2.jpg"/>
          <p:cNvPicPr/>
          <p:nvPr/>
        </p:nvPicPr>
        <p:blipFill>
          <a:blip r:embed="rId2"/>
          <a:stretch/>
        </p:blipFill>
        <p:spPr>
          <a:xfrm>
            <a:off x="5724360" y="2703600"/>
            <a:ext cx="3046680" cy="415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Documents and Settings\marina\Рабочий стол\МОЯ ПАПКА УЧИТЕЛЯ\бокал со льдом_3.jpg"/>
          <p:cNvPicPr/>
          <p:nvPr/>
        </p:nvPicPr>
        <p:blipFill>
          <a:blip r:embed="rId3"/>
          <a:stretch/>
        </p:blipFill>
        <p:spPr>
          <a:xfrm>
            <a:off x="2411280" y="1197000"/>
            <a:ext cx="4341960" cy="2436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:\Documents and Settings\marina\Рабочий стол\МОЯ ПАПКА УЧИТЕЛЯ\бокал со льдом_4.jpg"/>
          <p:cNvPicPr/>
          <p:nvPr/>
        </p:nvPicPr>
        <p:blipFill>
          <a:blip r:embed="rId4"/>
          <a:stretch/>
        </p:blipFill>
        <p:spPr>
          <a:xfrm>
            <a:off x="2411280" y="36450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ъём параллелепипеда</a:t>
            </a:r>
            <a:br>
              <a:rPr sz="3600"/>
            </a:br>
            <a:r>
              <a:rPr b="1" lang="en-US" sz="5400" spc="-1" strike="noStrike">
                <a:solidFill>
                  <a:srgbClr val="404040"/>
                </a:solidFill>
                <a:latin typeface="Verdana"/>
              </a:rPr>
              <a:t> V</a:t>
            </a: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пар-да=</a:t>
            </a:r>
            <a:r>
              <a:rPr b="1" lang="en-US" sz="3600" spc="-1" strike="noStrike">
                <a:solidFill>
                  <a:srgbClr val="404040"/>
                </a:solidFill>
                <a:latin typeface="Verdana"/>
              </a:rPr>
              <a:t>a*b*c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5" descr="C:\Documents and Settings\marina\Рабочий стол\МОЯ ПАПКА УЧИТЕЛЯ\МНЕМОТЕХНИКА\мнемо-картинки\Объём коробки_2.jpg"/>
          <p:cNvPicPr/>
          <p:nvPr/>
        </p:nvPicPr>
        <p:blipFill>
          <a:blip r:embed="rId1"/>
          <a:stretch/>
        </p:blipFill>
        <p:spPr>
          <a:xfrm>
            <a:off x="2556000" y="1773360"/>
            <a:ext cx="4091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бъём куба</a:t>
            </a:r>
            <a:br>
              <a:rPr sz="3200"/>
            </a:br>
            <a:r>
              <a:rPr b="1" lang="en-US" sz="4900" spc="-1" strike="noStrike">
                <a:solidFill>
                  <a:srgbClr val="404040"/>
                </a:solidFill>
                <a:latin typeface="Verdana"/>
              </a:rPr>
              <a:t> V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куба =</a:t>
            </a: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 a</a:t>
            </a:r>
            <a:r>
              <a:rPr b="1" lang="ru-RU" sz="32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C:\Documents and Settings\marina\Рабочий стол\МОЯ ПАПКА УЧИТЕЛЯ\МНЕМОТЕХНИКА\мнемо-картинки\объём пар-да 001.jpg"/>
          <p:cNvPicPr/>
          <p:nvPr/>
        </p:nvPicPr>
        <p:blipFill>
          <a:blip r:embed="rId1"/>
          <a:stretch/>
        </p:blipFill>
        <p:spPr>
          <a:xfrm>
            <a:off x="2627280" y="1916280"/>
            <a:ext cx="39751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9:46:53Z</dcterms:created>
  <dc:creator>User</dc:creator>
  <dc:description/>
  <dc:language>en-US</dc:language>
  <cp:lastModifiedBy>User</cp:lastModifiedBy>
  <dcterms:modified xsi:type="dcterms:W3CDTF">2013-07-05T18:30:18Z</dcterms:modified>
  <cp:revision>8</cp:revision>
  <dc:subject/>
  <dc:title>Площади и объёмы </dc:title>
</cp:coreProperties>
</file>